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75CD-034A-4F80-85EF-7ECD81F8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BAE6-72ED-4646-B5EE-04A03FC8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FA52-0EA7-4217-94FD-58FD5897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A7DA-876A-41BA-8F32-B814F71B1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E9C1-7878-427B-89A1-81F2985E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D45-47AC-4DE0-A056-DB0B71052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A9F7-B825-487E-9EC0-BE3111EF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A1D-8BCE-46D8-8B87-3D462E1E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20D6-E719-49D1-8740-FF5685AC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1C44-4DDF-4F4E-8032-FD754B32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ABF5-67A0-431E-BC8F-98B4982C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BD20-0900-49AB-A9FC-AEB23B67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21C31-DF02-4258-B22D-41F99F8CE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11880" y="2924280"/>
            <a:ext cx="691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КОРАЦИ И </a:t>
            </a: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АКТИВНОСТИ ТИМА ЗА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4240" y="1406520"/>
            <a:ext cx="662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в)УНОШЕЊЕ ПРОГРАМА У ШКОЛСКА ДОКУ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84960" y="1989000"/>
            <a:ext cx="6994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грам ПО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ставни део Годишњег плана 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некс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Школског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з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део Школског развојног пл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д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ео самовредновања и екстерног вредновања рада шк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354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827640" y="1293840"/>
            <a:ext cx="808704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МЕНТОРСКИ САСТАНЦИ </a:t>
            </a:r>
            <a:r>
              <a:rPr b="1" lang="sr-Latn-CS" sz="2400" spc="-1" strike="noStrike">
                <a:solidFill>
                  <a:srgbClr val="cc0000"/>
                </a:solidFill>
                <a:latin typeface="Arial"/>
              </a:rPr>
              <a:t>као под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ршка школама по :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ЕДОВНИ КОНТАКТ СА ТРЕНЕРОМ/МЕНТОРОМ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 2/МОШ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)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 МЕНТОРСКА САСТАНК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СА КООРДИНАТОРОМ И ТИМ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Б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1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/МОШ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20360" y="3213000"/>
            <a:ext cx="2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24000" y="3573360"/>
            <a:ext cx="4969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ОДРШК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МЕНТОРА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ИМПЛЕМЕНТАЦИЈИ ПРОГРАМ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ПАРТНЕРСКИМ И МЕНТОРСКИМ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ОДНОС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- УМРЕЖАВАЊУ СА  ПО ПАРТНЕРИМ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НА ПРЕЛАСКУ У СРЕДЊУ ШКО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81000" y="2349360"/>
            <a:ext cx="6799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КОРАЦИ ПО НАКОН БАЗИЧНЕ ОБУ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За МОШ ТИМОВЕ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имплементација Прог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8080"/>
                </a:solidFill>
                <a:latin typeface="Arial"/>
              </a:rPr>
              <a:t>-јачање мреже П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8244000" cy="6354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98100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ДОДАТНА ОБУКА КРОЗ 3 МОДУЛА ЗА МОШ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1428120"/>
            <a:ext cx="8316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ке за петочлане тимове МОШ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кредитоване од стране ЗУОВ/МПН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-Оснаживање младих кроз самоспозн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7-Модул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cc0000"/>
                </a:solidFill>
                <a:latin typeface="Arial"/>
              </a:rPr>
              <a:t>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  информисањем о занимањима, каријери и путевима образ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6-Модул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11. 03.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cc0000"/>
                </a:solidFill>
                <a:latin typeface="Arial"/>
              </a:rPr>
              <a:t>Професионална оријентација (ПО) - оснаживање младих за одлуку о занимању и школовању у сусрету са светом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аталошки број 645-Модул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1.03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и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1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20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 у РЦ Ниш,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Ц Сме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258920" y="1557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1640" y="155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АРТНЕРСТВО/МЕНТОРСТВО  И МРЕЖ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242000" y="2008080"/>
            <a:ext cx="7048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2 су у партнерском односу са 9 БОШ1 из првог к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буке, са којим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срећу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трећем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менторском саста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9 БОШ1 и 9БОШ 2 је у партнерском односу између себ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са МОШ1 и МОШ 2  у својој сред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 1   је у менторском односу са МОШ 2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ипрема МОШ 2 за менторство МОШ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7960" y="4941720"/>
            <a:ext cx="81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ВИ ОВИ ОДНОСИ ЗАЈЕДНО ЧИНЕ ПО  МРЕЖУ УЗАЈАМНЕ ПОДРШ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16200" y="1647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34136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c0000"/>
                </a:solidFill>
                <a:latin typeface="Arial"/>
              </a:rPr>
              <a:t>МОШ ТИМОВИ: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5157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20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76360" y="2492280"/>
            <a:ext cx="5832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АЗВИЈАЈУ ОБЛАСТ СПЕЦИЈАЛИЗАЦИЈ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ГРАДЕ ПРИМЕРЕ ДОБРЕ ПРАКСЕ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-ПОДРЖАВАЈУ БОШ НА ПУТУ ДО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69920"/>
            <a:ext cx="9144000" cy="6688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1341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7451640" cy="55897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6192360" y="2817720"/>
            <a:ext cx="4464360" cy="1079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СРЕЋНО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197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Пред одлуком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ОСТАТИ Б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Ш?  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ПОСТАТИ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МОШ?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2637000"/>
            <a:ext cx="789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9 ОШ ПОСТАЈУ БАЗИЧНЕ – БОШ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1 ОШ постаје 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МЕНТОРСК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  – М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НТОРСКИ СТАТУС СЕ ОСВАЈ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КВАЛИТЕТОМ ИМПЛЕМЕНТАЦИЈЕ И РАЗВОЈА 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КАКО ПОСТАТИ</a:t>
            </a:r>
            <a:br>
              <a:rPr sz="2400"/>
            </a:b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МЕНТОРСКА ШКОЛА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8229600" cy="34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ТИМ ПРОЦЕНИ СЕБЕ И ШКОЛУ  КАО ПОТЕНЦИЈАЛ З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ПОПУНИ  ОДГОВАРАЈУЋИ  ОБРАЗАЦ ЗА ОСВАЈАЊЕ СТАТУСА М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ОДЛУКУ ЗА МОШ ДОНОСЕ НА ОСНОВУ ПРОПИСАНИХ КРИТЕРИЈУМА ТРЕНЕРИ, КООРДИНАТОР РЦ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/ЦСУ/ЦКОО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 и </a:t>
            </a:r>
            <a:r>
              <a:rPr b="1" lang="sr-Latn-CS" sz="2000" spc="-1" strike="noStrike">
                <a:solidFill>
                  <a:srgbClr val="808080"/>
                </a:solidFill>
                <a:latin typeface="Arial"/>
              </a:rPr>
              <a:t>GIZ BOSS</a:t>
            </a:r>
            <a:r>
              <a:rPr b="1" lang="sr-CS" sz="2000" spc="-1" strike="noStrike">
                <a:solidFill>
                  <a:srgbClr val="808080"/>
                </a:solidFill>
                <a:latin typeface="Arial"/>
              </a:rPr>
              <a:t> ПРОЈЕКТНИ Т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ТРОЧЛАНИ ПО ТИМ СЕ ПРОШИРУЈЕ У МОШ ЗА ЈОШ 2 ЧЛАНА и ПОХАЂА ОБУКУ ЗА МОДУЛЕ 1,2,3 И МЕНТОРСТВ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О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30840" y="2997360"/>
            <a:ext cx="85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СПРОВОДИ АНКЕТУ УЧЕНИКА ЗА  УКЉУЧЕЊЕ  У ПРОГРАМ П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ИБАВЉА САГЛАСНОСТ РОДИТЕЉА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за учешће ученика/ца у програ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ФОРМИРА ГРУПЕ УЧЕНИКА И ДОВРШАВА ПЛАН ИМПЛЕМЕНТАЦИЈЕ</a:t>
            </a: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1480" y="1413000"/>
            <a:ext cx="489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ФОРМИРАЊЕ ГРУПА УЧЕНИК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ИЗРАДА ПЛАНА ИМПЛЕМЕНТ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78136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Б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формира најмање ЈЕДНУ  груп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гу да  је чине ученици 8. разреда или 7. разре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оже да буде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мешовита гру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МОШ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:  обухват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п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рограмом ПО  најмање  51% ученика 7. и 8. 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БОШ/МОШ 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груп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од 15-25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964720" cy="6524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9480" y="1052640"/>
            <a:ext cx="784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АНКЕТИРАЊЕ УЧЕНИКА ЗА  УКЉУЧИВАЊЕ  У ПРОГРАМ 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413000"/>
            <a:ext cx="7777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И САГЛАСНОСТ РОДИТЕЉ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лог за сагласност родитељ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2205000"/>
            <a:ext cx="8569440" cy="3529080"/>
          </a:xfrm>
          <a:prstGeom prst="foldedCorner">
            <a:avLst>
              <a:gd name="adj" fmla="val 12500"/>
            </a:avLst>
          </a:prstGeom>
          <a:solidFill>
            <a:srgbClr val="cfcfc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ВАНИ РОДИТЕЉУ/СТАРАТЕЉУ УЧЕНИ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,......разр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ост нам је да вашем  детету понудимо да  учествује у Програ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ПН и ГИЗ БОСС: ”Професионална оријентација на преласку у средњ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колу” и тако упозна своје склоности и интересовања у односу 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удућу школу/занимање, као и богатство света рада и занимања к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жу школа , како би што самосталније могло да донесе одлуку 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у своје будуће школе/занимањ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јим потписом, потврђујете своју сагласност:...........................................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у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……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сто: ………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08200" y="1335240"/>
            <a:ext cx="7931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4160" y="2924280"/>
            <a:ext cx="742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АРА ПОДЕЛУ ПОСЛОВА УНУТАР ШКОЛСКОГ Т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ПРЕЗЕНТУЈЕ ПРОГРАМ ПО ШКОЛСКИМ ОРГАНИМА И ТЕ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НОСИ ПРОГРАМ ПО У ШКОЛСКА ДОКУМЕНТА КАО АНЕ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08200" y="1335240"/>
            <a:ext cx="793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АКТИВНОСТИ 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ШКОЛСК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ОГ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ТИМ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З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КОН</a:t>
            </a: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БАЗИЧНЕ ОБ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68360" y="12682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а)ПОДЕЛА ПОСЛОВА УНУТАР ШКОЛСКОГ Т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1989000"/>
            <a:ext cx="878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ко је 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координатор школског тим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за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о и како реализује</a:t>
            </a:r>
            <a:r>
              <a:rPr b="1" lang="sr-CS" sz="1800" spc="-1" strike="noStrike" u="sng">
                <a:solidFill>
                  <a:srgbClr val="808080"/>
                </a:solidFill>
                <a:uFillTx/>
                <a:latin typeface="Arial"/>
              </a:rPr>
              <a:t> презентацију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програма ПО родитељима ученика и ученицима 7. и 8. разре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гажовањ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е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на анкетирању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Договор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зрад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а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анекса за школску документа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ИЗРАДА ПЛАНА ИМПЛЕМЕНТАЦИЈЕ ПРОГРАМА СА ДЕЦ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cc0000"/>
                </a:solidFill>
                <a:latin typeface="Arial"/>
              </a:rPr>
              <a:t>РАЗВИЈАЊЕ ПАРТНЕРСТВА/МЕНТОРСТВА СА ПО ШКОЛАМА НА ЛОКА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993080" cy="635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0960" y="1773360"/>
            <a:ext cx="85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б)ПРЕЗЕНТАЦИЈА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cc0000"/>
                </a:solidFill>
                <a:latin typeface="Arial"/>
              </a:rPr>
              <a:t>ПРОГРАМА ШКОЛСКИМ ОРГАНИМА И 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" y="2421000"/>
            <a:ext cx="824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Начин презентације програма договара школски т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Програм се  представља  Наставничком већу, Школском одбор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 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ченичком парламенту, Савету родитељ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верификује </a:t>
            </a: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се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ао Анек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Циљ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: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информисање свих релевантних  актера о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активностима 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808080"/>
                </a:solidFill>
                <a:latin typeface="Arial"/>
              </a:rPr>
              <a:t>програма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у школи</a:t>
            </a: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 и </a:t>
            </a: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очекиваним исход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13:13Z</dcterms:created>
  <dc:creator>vali</dc:creator>
  <dc:description/>
  <dc:language>en-US</dc:language>
  <cp:lastModifiedBy>WINDOWS XP</cp:lastModifiedBy>
  <dcterms:modified xsi:type="dcterms:W3CDTF">2012-02-05T12:02:50Z</dcterms:modified>
  <cp:revision>46</cp:revision>
  <dc:subject/>
  <dc:title>Slide 1</dc:title>
</cp:coreProperties>
</file>